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move the slide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AB8-54D2-4121-87FD-F7BC6A336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138E-89E3-4FD9-BD75-35DA91254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7296-3D93-4735-8DAD-8FCBEEE53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C9AA-B111-4D9B-9DCC-2EB94DA49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83A-0484-48CC-AE93-2A7B1228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D18-1620-4D5A-9ECD-1702E090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FBB-3CCF-4F96-894E-FA358253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9B5-8526-4767-808D-F43C3DEC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398-6EFD-4A4F-A4D0-920DE427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0FCA-B36D-4112-8EC3-AFAD4D2B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7A0F-8CE0-42DC-BAF9-5811805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9645-B590-466F-80F2-167C7702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C1C6-5F19-4E80-BA1A-47426710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BC64-200E-45FE-91DC-BCE804EB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5168-00DB-4940-B5E6-380FC37C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B18-2221-4286-B4F7-DC570EBA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58DB-45CF-4322-89AC-1ED4101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1649-8AA3-4FF9-BD2C-595BA11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9552-292E-4CCA-9E04-6FC057AD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6E49-58B8-4905-BE3C-7B0DFD00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BCE-7BFB-4D0B-AC26-ED3D6C93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B888-9409-4D5A-B76A-A34985C1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619F-A051-480F-AF2C-6E1E1F9E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D604-7AFE-4BBE-A07B-C6EA168A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6CBC-1045-4D2E-A643-318C977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33BA-4C8C-40B9-B3B9-4BA0352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6E1-02EC-49D1-8E2B-A70B61CF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D921-3A27-47FA-A8D7-CF7DF3D3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4E01-F953-4D73-9605-38637C1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1FED-7731-4B37-8E69-1A626278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3558-DED5-4C55-AF12-D861AFC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190A-DAB0-4B40-AE89-8759DBD9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B7CA-9613-43FB-9448-5B495EAD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076A-16C0-4788-B70D-A04A1783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E313-8DF8-4E01-9686-30DEB858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CA33-B1AB-4618-B220-46428F12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08FB9-8E11-49BE-A548-1BA4CE48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234-8032-4D62-9918-60BA813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BC36-FF59-45FA-9F95-68D4F368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7467-AF07-4DE6-B503-D3B5A57A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FB1C-C1CD-4AB5-B7CA-8D0B9F67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3269F-616F-4A47-9ACF-FE9F444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06A5-3244-4E20-8353-26B590A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C204-8C8A-486B-8CEE-48CBF68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112A-6EC0-4DDE-8858-EB8F362F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32A8-AC29-4F12-8808-59BDE2C1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6FF8-3D6B-421C-877A-23DA31E7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D01-DA2B-4B50-BB86-A0077C7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9A4-EE38-4CFB-830D-FFBB00D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1D4-951D-411A-B121-EF895A4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DAC-8A8B-4FB9-93CD-96C85BB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95B-A768-4792-A735-3DE818D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867-BCD2-49D6-9F39-F9664CA48F33}" type="slidenum">
              <a: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8"/>
          <p:cNvGrpSpPr/>
          <p:nvPr/>
        </p:nvGrpSpPr>
        <p:grpSpPr>
          <a:xfrm>
            <a:off x="667440" y="3633480"/>
            <a:ext cx="2553840" cy="2808000"/>
            <a:chOff x="667440" y="3633480"/>
            <a:chExt cx="2553840" cy="280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667440" y="4026600"/>
              <a:ext cx="2517120" cy="2414880"/>
              <a:chOff x="667440" y="4026600"/>
              <a:chExt cx="2517120" cy="241488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4280" y="4557240"/>
                <a:ext cx="2509920" cy="188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4680" y="4286520"/>
                <a:ext cx="1997640" cy="186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3640" y="3886920"/>
              <a:ext cx="1991880" cy="211500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pic>
          <p:nvPicPr>
            <p:cNvPr id="48" name="Picture 11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58520" y="4188600"/>
              <a:ext cx="34704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2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0520" y="5796720"/>
              <a:ext cx="368640" cy="3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3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a63212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212"/>
                </a:solidFill>
                <a:latin typeface="Rage Italic"/>
                <a:ea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260e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6645-4A3A-46C6-86C5-7B6567DCB79A}" type="slidenum">
              <a:rPr b="0" lang="en-US" sz="1400" spc="-1" strike="noStrike">
                <a:solidFill>
                  <a:srgbClr val="7d260e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632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1B5D-F501-42C3-A743-7C8D68B68E38}" type="slidenum">
              <a: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00000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A1A6-56B1-48D7-9D81-FE3F5521D050}" type="slidenum">
              <a:rPr b="0" lang="en-US" sz="1400" spc="-1" strike="noStrike">
                <a:solidFill>
                  <a:srgbClr val="7f7f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100"/>
                </a:solidFill>
                <a:latin typeface="Cambria"/>
              </a:rPr>
              <a:t>How To Write An Essay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96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100"/>
                </a:solidFill>
                <a:latin typeface="Cambria"/>
              </a:rPr>
              <a:t>Essay Format, Introductions, Body, Conclusions, Thesis Statements, and Topic Sentences</a:t>
            </a:r>
            <a:endParaRPr b="0" lang="en-US" sz="18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The Body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The body is a set of paragraphs that develop the idea expressed in the thesis statement.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Make a list of main ideas that support the thesis statement. Each main idea becomes the main idea sentence for a body paragraph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Arrange the main ideas in logical order (time, place, importance)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Plan out each body paragraph by listing major details that support each main idea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2" marL="822240" indent="-182520"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Order the details within each paragraph in a logical way. Each body paragraph may end with a concluding sentence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Example Essay Outline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mbria"/>
              </a:rPr>
              <a:t>Thesis Statement</a:t>
            </a: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 </a:t>
            </a:r>
            <a:r>
              <a:rPr b="0" lang="en-US" sz="1600" spc="-1" strike="noStrike">
                <a:solidFill>
                  <a:srgbClr val="7030a0"/>
                </a:solidFill>
                <a:latin typeface="Cambria"/>
              </a:rPr>
              <a:t>Gnome-napping is stealing personal property, and is illegal, morally wrong, and disrespectful.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mbria"/>
              </a:rPr>
              <a:t>Body Paragraph 1</a:t>
            </a: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Topic Sentence:  Gnome-napping is stealing someone’s personal property, and stealing is illegal.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Main Points:          1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                              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2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                              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3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mbria"/>
              </a:rPr>
              <a:t>Body Paragraph 2</a:t>
            </a: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Topic Sentence:  It is morally wrong to take anyone’s property, whether it is a gnome or a car.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Main Points:      1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                    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2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             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3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Cambria"/>
              </a:rPr>
              <a:t>Body Paragraph 3</a:t>
            </a: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Cambria"/>
              </a:rPr>
              <a:t>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Topic Sentence:  The GLF is incredibly disrespectful because they take items that don’t belong them.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Main Points:      1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            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2. </a:t>
            </a:r>
            <a:endParaRPr b="0" lang="en-US" sz="1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                        </a:t>
            </a:r>
            <a:r>
              <a:rPr b="0" lang="en-US" sz="1200" spc="-1" strike="noStrike">
                <a:solidFill>
                  <a:srgbClr val="404040"/>
                </a:solidFill>
                <a:latin typeface="Cambria"/>
              </a:rPr>
              <a:t>3. </a:t>
            </a:r>
            <a:r>
              <a:rPr b="0" lang="en-US" sz="9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9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900" spc="-1" strike="noStrike">
                <a:solidFill>
                  <a:srgbClr val="404040"/>
                </a:solidFill>
                <a:latin typeface="Cambria"/>
              </a:rPr>
              <a:t>	</a:t>
            </a:r>
            <a:endParaRPr b="0" lang="en-US" sz="9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The Writing Stage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fter planning and arranging your main ideas and major details, begin writing your body paragraphs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he number of paragraphs depends on the topic’s complexity, inclusiveness, and your purpose for writing.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Usually a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mbria"/>
              </a:rPr>
              <a:t>short</a:t>
            </a: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 essay contains </a:t>
            </a:r>
            <a:r>
              <a:rPr b="0" lang="en-US" sz="2400" spc="-1" strike="noStrike" u="sng">
                <a:solidFill>
                  <a:srgbClr val="404040"/>
                </a:solidFill>
                <a:uFillTx/>
                <a:latin typeface="Cambria"/>
              </a:rPr>
              <a:t>3 to 5</a:t>
            </a: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 body   paragraphs, plus an introduction and conclusion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Remember to use signal words to make smooth transitions between sentences and paragraphs.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Signal/Transition Words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example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For example, for instance, to illustrate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7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organization or chronological order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The six steps are…, next, finally first, secondly, third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7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additional point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Furthermore, in addition, also, moreover 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7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opposing idea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On the other hand, in contrast, although, however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7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similar idea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Likewise, similarly, in comparison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7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Signal/Transition Words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exception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However, nevertheless, but, yet, still 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emphasi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Above all, finally, more importantly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understanding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In other words, in essence, briefly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summarizing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In conclusion, to sum up, for these reasons, in a nutshell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404040"/>
                </a:solidFill>
                <a:uFillTx/>
                <a:latin typeface="Cambria"/>
              </a:rPr>
              <a:t>For exams</a:t>
            </a:r>
            <a:r>
              <a:rPr b="0" lang="en-US" sz="2800" spc="-1" strike="noStrike">
                <a:solidFill>
                  <a:srgbClr val="404040"/>
                </a:solidFill>
                <a:latin typeface="Cambria"/>
              </a:rPr>
              <a:t>: Remember this, this is important, this could be on the test</a:t>
            </a: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Conclusion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mbria"/>
              </a:rPr>
              <a:t>Leave the reader thinking about your topic.  Leave an impression on them!</a:t>
            </a: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mbria"/>
              </a:rPr>
              <a:t>No new information in conclusion</a:t>
            </a: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mbria"/>
              </a:rPr>
              <a:t>Be sure to recap your ideas</a:t>
            </a: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mbria"/>
              </a:rPr>
              <a:t>Should follow logically from the body of the essay</a:t>
            </a: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mbria"/>
              </a:rPr>
              <a:t>Restate your thesis statement in different words</a:t>
            </a: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mbria"/>
              </a:rPr>
              <a:t>You might want to have your reader do something after reading (“call to action” – Example: Go write your Senator about this problem.)</a:t>
            </a: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Essay Format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190" name="Content Placeholder 3" descr=""/>
          <p:cNvPicPr/>
          <p:nvPr/>
        </p:nvPicPr>
        <p:blipFill>
          <a:blip r:embed="rId1"/>
          <a:stretch/>
        </p:blipFill>
        <p:spPr>
          <a:xfrm>
            <a:off x="615960" y="1603440"/>
            <a:ext cx="8150040" cy="4492440"/>
          </a:xfrm>
          <a:prstGeom prst="rect">
            <a:avLst/>
          </a:prstGeom>
          <a:ln w="0">
            <a:noFill/>
          </a:ln>
        </p:spPr>
      </p:pic>
      <p:grpSp>
        <p:nvGrpSpPr>
          <p:cNvPr id="191" name="Isosceles Triangle 4"/>
          <p:cNvGrpSpPr/>
          <p:nvPr/>
        </p:nvGrpSpPr>
        <p:grpSpPr>
          <a:xfrm>
            <a:off x="3371760" y="4834080"/>
            <a:ext cx="1346400" cy="1506240"/>
            <a:chOff x="3371760" y="4834080"/>
            <a:chExt cx="1346400" cy="1506240"/>
          </a:xfrm>
        </p:grpSpPr>
        <p:pic>
          <p:nvPicPr>
            <p:cNvPr id="192" name="Isosceles Triangle 4" descr=""/>
            <p:cNvPicPr/>
            <p:nvPr/>
          </p:nvPicPr>
          <p:blipFill>
            <a:blip r:embed="rId2"/>
            <a:stretch/>
          </p:blipFill>
          <p:spPr>
            <a:xfrm>
              <a:off x="3371760" y="4834080"/>
              <a:ext cx="134640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733920" y="556272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94" name="Isosceles Triangle 5"/>
          <p:cNvGrpSpPr/>
          <p:nvPr/>
        </p:nvGrpSpPr>
        <p:grpSpPr>
          <a:xfrm>
            <a:off x="3371760" y="1560600"/>
            <a:ext cx="1346400" cy="1353960"/>
            <a:chOff x="3371760" y="1560600"/>
            <a:chExt cx="1346400" cy="1353960"/>
          </a:xfrm>
        </p:grpSpPr>
        <p:pic>
          <p:nvPicPr>
            <p:cNvPr id="195" name="Isosceles Triangle 5" descr=""/>
            <p:cNvPicPr/>
            <p:nvPr/>
          </p:nvPicPr>
          <p:blipFill>
            <a:blip r:embed="rId3"/>
            <a:stretch/>
          </p:blipFill>
          <p:spPr>
            <a:xfrm>
              <a:off x="3371760" y="1560600"/>
              <a:ext cx="134640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10800000">
              <a:off x="3733560" y="1599840"/>
              <a:ext cx="60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97" name="Rectangle 6"/>
          <p:cNvGrpSpPr/>
          <p:nvPr/>
        </p:nvGrpSpPr>
        <p:grpSpPr>
          <a:xfrm>
            <a:off x="3371760" y="3005280"/>
            <a:ext cx="1346400" cy="1890720"/>
            <a:chOff x="3371760" y="3005280"/>
            <a:chExt cx="1346400" cy="1890720"/>
          </a:xfrm>
        </p:grpSpPr>
        <p:pic>
          <p:nvPicPr>
            <p:cNvPr id="198" name="Rectangle 6" descr=""/>
            <p:cNvPicPr/>
            <p:nvPr/>
          </p:nvPicPr>
          <p:blipFill>
            <a:blip r:embed="rId4"/>
            <a:stretch/>
          </p:blipFill>
          <p:spPr>
            <a:xfrm>
              <a:off x="3371760" y="3005280"/>
              <a:ext cx="134640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429000" y="3048120"/>
              <a:ext cx="12193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00" name="TextBox 7"/>
          <p:cNvSpPr/>
          <p:nvPr/>
        </p:nvSpPr>
        <p:spPr>
          <a:xfrm>
            <a:off x="4652640" y="23623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83912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2241720" y="54100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03" name="Oval 10"/>
          <p:cNvGrpSpPr/>
          <p:nvPr/>
        </p:nvGrpSpPr>
        <p:grpSpPr>
          <a:xfrm>
            <a:off x="3902040" y="2779560"/>
            <a:ext cx="279360" cy="287640"/>
            <a:chOff x="3902040" y="2779560"/>
            <a:chExt cx="279360" cy="287640"/>
          </a:xfrm>
        </p:grpSpPr>
        <p:pic>
          <p:nvPicPr>
            <p:cNvPr id="204" name="Oval 10" descr=""/>
            <p:cNvPicPr/>
            <p:nvPr/>
          </p:nvPicPr>
          <p:blipFill>
            <a:blip r:embed="rId5"/>
            <a:stretch/>
          </p:blipFill>
          <p:spPr>
            <a:xfrm>
              <a:off x="3902040" y="2779560"/>
              <a:ext cx="27936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984480" y="284148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06" name="TextBox 11"/>
          <p:cNvSpPr/>
          <p:nvPr/>
        </p:nvSpPr>
        <p:spPr>
          <a:xfrm>
            <a:off x="1961280" y="26668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sis Statemen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Introduction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First part of an essay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Try to capture the reader’s attention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Introduction Forma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1. Attention getter 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2. State your problem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mbria"/>
              </a:rPr>
              <a:t>3. Bridge or transition sentences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4. Thesis statement (always at the end)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262626"/>
                </a:solidFill>
                <a:latin typeface="Cambria"/>
              </a:rPr>
              <a:t>Ways to Start Your Introduction</a:t>
            </a:r>
            <a:endParaRPr b="0" lang="en-US" sz="3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4132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7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u="sng">
                <a:solidFill>
                  <a:srgbClr val="404040"/>
                </a:solidFill>
                <a:uFillTx/>
                <a:latin typeface="Cambria"/>
              </a:rPr>
              <a:t>Strategy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Provide some </a:t>
            </a:r>
            <a:r>
              <a:rPr b="1" lang="en-US" sz="1600" spc="-1" strike="noStrike">
                <a:solidFill>
                  <a:srgbClr val="404040"/>
                </a:solidFill>
                <a:latin typeface="Cambria"/>
              </a:rPr>
              <a:t>interesting background</a:t>
            </a: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 about the topic in the form of a general statement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Use a thought-provoking </a:t>
            </a:r>
            <a:r>
              <a:rPr b="1" lang="en-US" sz="1600" spc="-1" strike="noStrike">
                <a:solidFill>
                  <a:srgbClr val="404040"/>
                </a:solidFill>
                <a:latin typeface="Cambria"/>
              </a:rPr>
              <a:t>quotation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Ask a </a:t>
            </a:r>
            <a:r>
              <a:rPr b="1" lang="en-US" sz="1600" spc="-1" strike="noStrike">
                <a:solidFill>
                  <a:srgbClr val="404040"/>
                </a:solidFill>
                <a:latin typeface="Cambria"/>
              </a:rPr>
              <a:t>question</a:t>
            </a: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 about your topic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State a </a:t>
            </a:r>
            <a:r>
              <a:rPr b="1" lang="en-US" sz="1600" spc="-1" strike="noStrike">
                <a:solidFill>
                  <a:srgbClr val="404040"/>
                </a:solidFill>
                <a:latin typeface="Cambria"/>
              </a:rPr>
              <a:t>surprising fact</a:t>
            </a: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 or a </a:t>
            </a:r>
            <a:r>
              <a:rPr b="1" lang="en-US" sz="1600" spc="-1" strike="noStrike">
                <a:solidFill>
                  <a:srgbClr val="404040"/>
                </a:solidFill>
                <a:latin typeface="Cambria"/>
              </a:rPr>
              <a:t>puzzling statement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Start with a </a:t>
            </a:r>
            <a:r>
              <a:rPr b="1" lang="en-US" sz="1600" spc="-1" strike="noStrike">
                <a:solidFill>
                  <a:srgbClr val="404040"/>
                </a:solidFill>
                <a:latin typeface="Cambria"/>
              </a:rPr>
              <a:t>short story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34960" indent="-2192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508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7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u="sng">
                <a:solidFill>
                  <a:srgbClr val="404040"/>
                </a:solidFill>
                <a:uFillTx/>
                <a:latin typeface="Cambria"/>
              </a:rPr>
              <a:t>Examples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Today’s gnome owners become tomorrow’s leaders.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“</a:t>
            </a: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Gnomes are creatures to be loved, not feared!” 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Dr. S. Rosner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Why don’t many people like gnomes?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In 1693, the first gnome was brought to America.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mbria"/>
              </a:rPr>
              <a:t>Little Susie looked out her window, only to see her precious gnome, Willard, was being stolen….</a:t>
            </a:r>
            <a:endParaRPr b="0" lang="en-US" sz="16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262626"/>
                </a:solidFill>
                <a:latin typeface="Cambria"/>
              </a:rPr>
              <a:t>Ways to Start Your Introduction</a:t>
            </a:r>
            <a:endParaRPr b="0" lang="en-US" sz="3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4132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404040"/>
                </a:solidFill>
                <a:uFillTx/>
                <a:latin typeface="Cambria"/>
              </a:rPr>
              <a:t>Strategy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State a </a:t>
            </a:r>
            <a:r>
              <a:rPr b="1" lang="en-US" sz="2000" spc="-1" strike="noStrike">
                <a:solidFill>
                  <a:srgbClr val="404040"/>
                </a:solidFill>
                <a:latin typeface="Cambria"/>
              </a:rPr>
              <a:t>common misconception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Describe a </a:t>
            </a:r>
            <a:r>
              <a:rPr b="1" lang="en-US" sz="2000" spc="-1" strike="noStrike">
                <a:solidFill>
                  <a:srgbClr val="404040"/>
                </a:solidFill>
                <a:latin typeface="Cambria"/>
              </a:rPr>
              <a:t>problem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Give an </a:t>
            </a:r>
            <a:r>
              <a:rPr b="1" lang="en-US" sz="2000" spc="-1" strike="noStrike">
                <a:solidFill>
                  <a:srgbClr val="404040"/>
                </a:solidFill>
                <a:latin typeface="Cambria"/>
              </a:rPr>
              <a:t>analogy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40360" indent="-22140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Show how the topic is related to the </a:t>
            </a:r>
            <a:r>
              <a:rPr b="1" lang="en-US" sz="2000" spc="-1" strike="noStrike">
                <a:solidFill>
                  <a:srgbClr val="404040"/>
                </a:solidFill>
                <a:latin typeface="Cambria"/>
              </a:rPr>
              <a:t>reader’s experience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5080" y="203832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404040"/>
                </a:solidFill>
                <a:uFillTx/>
                <a:latin typeface="Cambria"/>
              </a:rPr>
              <a:t>Examples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People don’t learn bad habits from gnomes.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Everyone knows what a problem gnome-napping has become in our society.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Gnomes are just like children.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29200" indent="-217080">
              <a:lnSpc>
                <a:spcPct val="70000"/>
              </a:lnSpc>
              <a:spcBef>
                <a:spcPts val="49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Most people know how difficult it is to take care of garden gnomes. </a:t>
            </a: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Introduction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Make a bridge to connect the attention getting sentence(s) to your thesis statemen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55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Common way to make a bridge is to explain why the topic is important. 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550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mbria"/>
              </a:rPr>
              <a:t>This bridge is often a few sentences long.</a:t>
            </a:r>
            <a:endParaRPr b="0" lang="en-US" sz="22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Conclude introductory paragraph with the most important idea of the essay-</a:t>
            </a:r>
            <a:r>
              <a:rPr b="1" lang="en-US" sz="2400" spc="-1" strike="noStrike" u="sng">
                <a:solidFill>
                  <a:srgbClr val="404040"/>
                </a:solidFill>
                <a:uFillTx/>
                <a:latin typeface="Cambria"/>
              </a:rPr>
              <a:t>THE THESIS STATEMENT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262626"/>
                </a:solidFill>
                <a:latin typeface="Cambria"/>
              </a:rPr>
              <a:t>The Parts of a Thesis Statement</a:t>
            </a:r>
            <a:endParaRPr b="0" lang="en-US" sz="43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2120"/>
            <a:ext cx="8405640" cy="43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262626"/>
                </a:solidFill>
                <a:latin typeface="Cambria"/>
              </a:rPr>
              <a:t>The Functions of a Thesis Statement</a:t>
            </a:r>
            <a:endParaRPr b="0" lang="en-US" sz="4300" spc="-1" strike="noStrike">
              <a:solidFill>
                <a:srgbClr val="262626"/>
              </a:solidFill>
              <a:latin typeface="Cambria"/>
            </a:endParaRPr>
          </a:p>
        </p:txBody>
      </p:sp>
      <p:pic>
        <p:nvPicPr>
          <p:cNvPr id="220" name="Content Placeholder 4" descr=""/>
          <p:cNvPicPr/>
          <p:nvPr/>
        </p:nvPicPr>
        <p:blipFill>
          <a:blip r:embed="rId1"/>
          <a:stretch/>
        </p:blipFill>
        <p:spPr>
          <a:xfrm>
            <a:off x="407880" y="1932120"/>
            <a:ext cx="8291520" cy="43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mbria"/>
              </a:rPr>
              <a:t>Example of an Introduction</a:t>
            </a:r>
            <a:endParaRPr b="0" lang="en-US" sz="4800" spc="-1" strike="noStrike">
              <a:solidFill>
                <a:srgbClr val="262626"/>
              </a:solidFill>
              <a:latin typeface="Cambr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203796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Example</a:t>
            </a:r>
            <a:endParaRPr b="0" lang="en-US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Cambria"/>
              </a:rPr>
              <a:t>Gnome-Phobia in America</a:t>
            </a:r>
            <a:endParaRPr b="0" lang="en-US" sz="15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en-US" sz="1400" spc="-1" strike="noStrike">
                <a:solidFill>
                  <a:srgbClr val="404040"/>
                </a:solidFill>
                <a:latin typeface="Cambria"/>
              </a:rPr>
              <a:t>1. </a:t>
            </a:r>
            <a:r>
              <a:rPr b="0" lang="en-US" sz="1400" spc="-1" strike="noStrike">
                <a:solidFill>
                  <a:srgbClr val="ff0000"/>
                </a:solidFill>
                <a:latin typeface="Cambria"/>
              </a:rPr>
              <a:t>In 2004, the Gnome Liberation Front (GLF) was created.  This group of people believes that gnomes should be free, not prisoners of their owner’s garden.  </a:t>
            </a:r>
            <a:r>
              <a:rPr b="0" lang="en-US" sz="1400" spc="-1" strike="noStrike">
                <a:solidFill>
                  <a:srgbClr val="404040"/>
                </a:solidFill>
                <a:latin typeface="Cambria"/>
              </a:rPr>
              <a:t>2. </a:t>
            </a:r>
            <a:r>
              <a:rPr b="0" lang="en-US" sz="1400" spc="-1" strike="noStrike">
                <a:solidFill>
                  <a:srgbClr val="00b050"/>
                </a:solidFill>
                <a:latin typeface="Cambria"/>
              </a:rPr>
              <a:t>The GLF has now begun gnome-napping, the act of stealing gnomes and “freeing them” in the wilderness; however, the law is unwilling to do anything. </a:t>
            </a:r>
            <a:r>
              <a:rPr b="0" lang="en-US" sz="1400" spc="-1" strike="noStrike">
                <a:solidFill>
                  <a:srgbClr val="404040"/>
                </a:solidFill>
                <a:latin typeface="Cambria"/>
              </a:rPr>
              <a:t>3.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Many police state that the gnomes are not a serious enough offense to deal with and that they have larger crimes to deal with.  This is not acceptable.  The law should be taking the gnome-napping more seriously because people are committing a crime.  </a:t>
            </a:r>
            <a:r>
              <a:rPr b="0" lang="en-US" sz="1400" spc="-1" strike="noStrike">
                <a:solidFill>
                  <a:srgbClr val="404040"/>
                </a:solidFill>
                <a:latin typeface="Cambria"/>
              </a:rPr>
              <a:t>4. </a:t>
            </a:r>
            <a:r>
              <a:rPr b="0" lang="en-US" sz="1400" spc="-1" strike="noStrike">
                <a:solidFill>
                  <a:srgbClr val="7030a0"/>
                </a:solidFill>
                <a:latin typeface="Cambria"/>
              </a:rPr>
              <a:t>Gnome-napping is stealing personal property, and is illegal, morally wrong, and disrespectful.</a:t>
            </a: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1. Attention getter 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b050"/>
                </a:solidFill>
                <a:latin typeface="Cambria"/>
              </a:rPr>
              <a:t>2. State your problem.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70c0"/>
                </a:solidFill>
                <a:latin typeface="Cambria"/>
              </a:rPr>
              <a:t>3. Bridge or transition sentences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7030a0"/>
                </a:solidFill>
                <a:latin typeface="Cambria"/>
              </a:rPr>
              <a:t>4. Thesis statement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mbria"/>
              </a:rPr>
              <a:t>**NOTE: This doesn’t mean your intro is 4 sentences long.  It just has 4 parts.</a:t>
            </a: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425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  <a:p>
            <a:pPr lvl="1" marL="5572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8:57:48Z</dcterms:created>
  <dc:creator>Brooke</dc:creator>
  <dc:description/>
  <dc:language>en-US</dc:language>
  <cp:lastModifiedBy>Brooke</cp:lastModifiedBy>
  <dcterms:modified xsi:type="dcterms:W3CDTF">2010-01-10T19:47:09Z</dcterms:modified>
  <cp:revision>6</cp:revision>
  <dc:subject/>
  <dc:title>How to write an essay</dc:title>
</cp:coreProperties>
</file>